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7B94-99AC-4DAD-B3FB-6E6635BE78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BB9-7FAD-4712-B631-05EF019CE0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DE3-C5DF-45C6-84D4-47B1A08B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17F-5886-44DD-9CC3-F4F72470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F9F-AACF-456C-A0BB-33B2C4BB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2CF-15F6-497C-A1D8-CD836EB6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D84-32DC-41C6-8865-9290B660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B12-BEE7-4C9D-993C-8AE9363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C0B-AD4A-4FF0-A008-8AF52BF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319-8B3F-4A06-AE27-047C0F78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00A-35F5-44F3-B03D-D3D81A21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C99-6B3A-4836-9F77-0ECADA6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096-42A5-4206-99FB-45843B6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C78-C5FC-429F-8B8F-EDFEC81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6BC-1D3D-4C1E-90DF-7C3B55BE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cting Web Services from COBOL Code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COBOL to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) Sources of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) Salvaging Web Services from 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) Identifying Reusab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) Evaluating potential reusab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) Stripping the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) Converting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7) Wrapping the extracted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8) Generating the WSD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) Integrating the wrapp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0) Pros &amp; Cons of Using this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1) Open Issues in Web Servic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8140320" y="2127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900000" y="1484280"/>
            <a:ext cx="5040360" cy="40323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6588000" y="1125360"/>
            <a:ext cx="1465560" cy="5197680"/>
            <a:chOff x="6588000" y="1125360"/>
            <a:chExt cx="1465560" cy="5197680"/>
          </a:xfrm>
        </p:grpSpPr>
        <p:sp>
          <p:nvSpPr>
            <p:cNvPr id="141" name="Rectangle 4"/>
            <p:cNvSpPr/>
            <p:nvPr/>
          </p:nvSpPr>
          <p:spPr>
            <a:xfrm>
              <a:off x="6588000" y="5445000"/>
              <a:ext cx="146556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6588000" y="4365720"/>
              <a:ext cx="14655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6588000" y="2290680"/>
              <a:ext cx="146556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Reloca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Self-contro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6588000" y="1125360"/>
              <a:ext cx="14655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Paramet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6588000" y="1125360"/>
              <a:ext cx="1465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588000" y="2290680"/>
              <a:ext cx="146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6588000" y="4365720"/>
              <a:ext cx="146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6588000" y="5445000"/>
              <a:ext cx="146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6588000" y="6323040"/>
              <a:ext cx="1465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6588000" y="1125360"/>
              <a:ext cx="0" cy="519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8053560" y="1125360"/>
              <a:ext cx="0" cy="519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5"/>
          <p:cNvSpPr/>
          <p:nvPr/>
        </p:nvSpPr>
        <p:spPr>
          <a:xfrm>
            <a:off x="3442680" y="712800"/>
            <a:ext cx="1322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siness R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1042920" y="1989000"/>
            <a:ext cx="1441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Used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Source eff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3348000" y="1917720"/>
            <a:ext cx="165564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traver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5003640" y="2708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1835280" y="170028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183528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3492360" y="5734080"/>
            <a:ext cx="1368720" cy="431640"/>
          </a:xfrm>
          <a:prstGeom prst="flowChartTerminator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414036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4859280" y="59500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763640" y="5300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1763640" y="3068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1763640" y="59500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4140360" y="1125360"/>
            <a:ext cx="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1246680" y="9795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Legacy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2591280" y="1522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tripping Progra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814320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38080" y="762120"/>
            <a:ext cx="7848720" cy="5790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228600" y="152280"/>
            <a:ext cx="8763120" cy="214560"/>
            <a:chOff x="228600" y="152280"/>
            <a:chExt cx="8763120" cy="214560"/>
          </a:xfrm>
        </p:grpSpPr>
        <p:sp>
          <p:nvSpPr>
            <p:cNvPr id="171" name="Text Box 4"/>
            <p:cNvSpPr/>
            <p:nvPr/>
          </p:nvSpPr>
          <p:spPr>
            <a:xfrm>
              <a:off x="228600" y="15228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7772400" y="15228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"/>
          <p:cNvSpPr/>
          <p:nvPr/>
        </p:nvSpPr>
        <p:spPr>
          <a:xfrm>
            <a:off x="942840" y="801720"/>
            <a:ext cx="7058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   REC    DISPATCH-REC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AN        REC-TYP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X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ORDER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NUM       CUST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AN        CUST-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(20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STRU      CUST-ADDRES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AN           ST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(30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NUM          ZIP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4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AN           CITY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(20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AN           STAT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(4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STRU      ORDER-ITEM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STRU       * DISPATCH-ITEM (3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             ITEM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3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ART-NO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ART-TYP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99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ITEM-QUAN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   REC    POSITION-REC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AN        REC-TYP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NUM       ORDER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CUST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3     STRU      DISPATCH-ITE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          ITEM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3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          ART-N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8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ITEM-PRIC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99V99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NU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ITEM-QUAN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4     AN           PAYMEN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AN  PRT-LIN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(1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990720" y="5791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990720" y="62485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4190760" y="45720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295280" y="228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ng Data Structures for requir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hteck 12"/>
          <p:cNvSpPr/>
          <p:nvPr/>
        </p:nvSpPr>
        <p:spPr>
          <a:xfrm>
            <a:off x="3367440" y="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tri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762120" y="762120"/>
            <a:ext cx="7696080" cy="5943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90512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acing the Data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62120" y="1219320"/>
            <a:ext cx="77724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DATA REFERENCED IN PROGRAM: COBO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  FILE FILE-DAT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***************************************************************************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REC  ARTICLE-REC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NUM      ART-QUAN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S9(5)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272 R         SUBTRACT ITEM-QUAN IN ORDER-RECORD (POS) FRO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ART-QUAN IN DISPATCH-ITEM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NUM      ART-PRIC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S999V99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***************************************************************************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REC  DISPATCH-RECORD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2  AN       PAYMEN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X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313 R      MOVE "N" TO PAYMEN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315 R      MOVE "C" TO PAYMEN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***************************************************************************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  WORK WORK-DATA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***************************************************************************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1  NUM  ITEM-PRIC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PIC 9999V99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335 R   MULTIPLY ART-PRICE IN ARTICLE-RECORD BY ITEM-QUA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IN DISPATCH-ITEM GIVING ITEM-PRICE.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6400440" y="25909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6705720" y="533412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5866920" y="41148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9"/>
          <p:cNvSpPr/>
          <p:nvPr/>
        </p:nvSpPr>
        <p:spPr>
          <a:xfrm>
            <a:off x="3438720" y="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tri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201080" cy="4110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191" name="Group 3"/>
          <p:cNvGrpSpPr/>
          <p:nvPr/>
        </p:nvGrpSpPr>
        <p:grpSpPr>
          <a:xfrm>
            <a:off x="0" y="5734080"/>
            <a:ext cx="8839080" cy="642240"/>
            <a:chOff x="0" y="5734080"/>
            <a:chExt cx="8839080" cy="642240"/>
          </a:xfrm>
        </p:grpSpPr>
        <p:sp>
          <p:nvSpPr>
            <p:cNvPr id="192" name="Text Box 4"/>
            <p:cNvSpPr/>
            <p:nvPr/>
          </p:nvSpPr>
          <p:spPr>
            <a:xfrm>
              <a:off x="685800" y="6039000"/>
              <a:ext cx="731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lecting the desired Results for Respon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0" y="5734080"/>
              <a:ext cx="838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7848720" y="5734080"/>
              <a:ext cx="99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7"/>
          <p:cNvSpPr/>
          <p:nvPr/>
        </p:nvSpPr>
        <p:spPr>
          <a:xfrm>
            <a:off x="2412720" y="3078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BWrap Data Selection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hteck 9"/>
          <p:cNvSpPr/>
          <p:nvPr/>
        </p:nvSpPr>
        <p:spPr>
          <a:xfrm>
            <a:off x="3438720" y="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tri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52280" y="990720"/>
            <a:ext cx="8893440" cy="5752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PROCEDURE/METHOD: ARB-ERS-WEITER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INPUTS/ARGUMENTS            |  PREDICATES                | OUTPUTS/RESULTS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RATE                       |KO-KVKZ                     |WRATE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LFNR                       |                            |WLFNR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KTNR                       |                            |WKTNR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EDAT                       |                            |WEDAT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ADAT                       |                            |WADAT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VORG                       |                            |WVORG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FART                       |                            |WFART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ABR                        |                            |WABR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TIT                        |                            |PAR-TXZUS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TI-TITEL                      |                            |TI-TIT9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FAM                        |                            |PTX-FELD1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VOR                        |                            |PTX-FELD2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KO-VOR2                       |                            |ZVOR1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ZVOR                          |                            |ZVOR2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PTX-FELD                      |                            |PTX-FELD3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|                            |WPNAM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PROCEDURE/METHOD: UPDRU-ANF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INPUTS/ARGUMENTS            |  PREDICATES                | OUTPUTS/RESULTS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WRATE                         |                            |Z-DRUCK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|                            |Z-ZAEHL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|                            |DRATE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|                            |ZWRATE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+----------------------------+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304920" y="152280"/>
            <a:ext cx="8839080" cy="764640"/>
            <a:chOff x="304920" y="152280"/>
            <a:chExt cx="8839080" cy="764640"/>
          </a:xfrm>
        </p:grpSpPr>
        <p:sp>
          <p:nvSpPr>
            <p:cNvPr id="201" name="Text Box 4"/>
            <p:cNvSpPr/>
            <p:nvPr/>
          </p:nvSpPr>
          <p:spPr>
            <a:xfrm>
              <a:off x="990720" y="457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Data Flow within the selected 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304920" y="15228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8153640" y="152280"/>
              <a:ext cx="990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eck 8"/>
          <p:cNvSpPr/>
          <p:nvPr/>
        </p:nvSpPr>
        <p:spPr>
          <a:xfrm>
            <a:off x="3438720" y="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tri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52280" y="762120"/>
            <a:ext cx="8713800" cy="5934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187|       |ENTRY 'PSAB001V' USING PSABSATZ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188|       |MOVE PSABSATZ TO KO-BER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189|If     |IF KO-ONRE NOT = ZERO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+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190|GoTo   |   |@&lt;-GO TO ZURUECK.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24|If     |IF WRATE NOT = ZWRATE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+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225|       |   |@PERFORM UPDRU-END THRU EXDRU-END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226|       |   |@PERFORM UPDRU-ANF THRU EXDRU-ANF.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227|GoTo   |   |@&lt;-GO TO DRU-ARB.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83|If     |IF PD-VGL1 NOT = 'K' OR PD-DIFF &lt; 16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+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285|       |   |@NEXT SENTENCE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+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87|Else   |ELSE      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+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2|00287|       |   |@MOVE '0' TO WKZ.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0|00288|Label  |ARB-ERS-WEITER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89|       |MOVE KO-RATE TO WRATE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0|       |MOVE KO-LFNR TO WLFNR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1|       |MOVE KO-KTNR TO WKTNR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2|       |MOVE KO-EDAT TO WEDAT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3|       |MOVE KO-ADAT TO WADAT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4|       |MOVE KO-VORG TO WVORG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5|       |MOVE KO-FART TO WFART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1|00296|       |MOVE KO-ABR TO WABR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+-----+-------+--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0" y="-152280"/>
            <a:ext cx="8839080" cy="897840"/>
            <a:chOff x="0" y="-152280"/>
            <a:chExt cx="8839080" cy="897840"/>
          </a:xfrm>
        </p:grpSpPr>
        <p:sp>
          <p:nvSpPr>
            <p:cNvPr id="209" name="Text Box 4"/>
            <p:cNvSpPr/>
            <p:nvPr/>
          </p:nvSpPr>
          <p:spPr>
            <a:xfrm>
              <a:off x="642960" y="28584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Slice of Code extracted from selected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0" y="-15228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7848720" y="-152280"/>
              <a:ext cx="990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eck 8"/>
          <p:cNvSpPr/>
          <p:nvPr/>
        </p:nvSpPr>
        <p:spPr>
          <a:xfrm>
            <a:off x="3438720" y="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tri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1143000"/>
            <a:ext cx="6629400" cy="538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complexType type = "#record" name = “DISPATCH-ITEM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eltOnly" model = "closed" level = "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unbounde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element type = "#dec" name = “ITEM-N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TextOnly" model = "closed" level = "02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s = "0001" lng = "0003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ic = "99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element type = "#dec" name = “ART-N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TextOnly" model = "closed" level = "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s = "0004" lng = "0008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ic = "9(8)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element type = "#dec" name = “ITEM-PRIC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TextOnly" model = "closed" level = "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s = "0012" lng = "0006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ic = "9999V99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element type = "#dec" name = “ITEM-QU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TextOnly" model = "closed" level = "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s = "0018" lng = "00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ic = "9(5)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XSDCOB:element type = "#dec" name = “PAYMENT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ent = "TextOnly" model = "closed" level = "05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ccurs = "ONEORMORE" minOccurs = "0001" maxOccurs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s = "0023" lng = "0001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ic = “X" usage = "DISPLAY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/XSDCOB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905120" y="304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ting the Data to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hteck 5"/>
          <p:cNvSpPr/>
          <p:nvPr/>
        </p:nvSpPr>
        <p:spPr>
          <a:xfrm>
            <a:off x="3152160" y="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Converting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2698920" y="1628640"/>
            <a:ext cx="3960720" cy="792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WSDL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266720" y="76212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 flipH="1">
            <a:off x="4572000" y="121932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V="1">
            <a:off x="4572000" y="137160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 flipH="1">
            <a:off x="4571640" y="13716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195640" y="2924280"/>
            <a:ext cx="4968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enerated Wrapper Rout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195640" y="4149720"/>
            <a:ext cx="4968720" cy="187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833200" y="407664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5208120" y="407664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195640" y="472428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457200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3263400" y="5013360"/>
            <a:ext cx="270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cedural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ction, Procedure or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363528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V="1">
            <a:off x="550872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55087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70836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1332000" y="206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9"/>
          <p:cNvSpPr/>
          <p:nvPr/>
        </p:nvSpPr>
        <p:spPr>
          <a:xfrm>
            <a:off x="133200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1332000" y="44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1"/>
          <p:cNvSpPr/>
          <p:nvPr/>
        </p:nvSpPr>
        <p:spPr>
          <a:xfrm>
            <a:off x="133200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7164360" y="44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3"/>
          <p:cNvSpPr/>
          <p:nvPr/>
        </p:nvSpPr>
        <p:spPr>
          <a:xfrm>
            <a:off x="6659640" y="206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4"/>
          <p:cNvSpPr/>
          <p:nvPr/>
        </p:nvSpPr>
        <p:spPr>
          <a:xfrm>
            <a:off x="8028000" y="2060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5"/>
          <p:cNvSpPr/>
          <p:nvPr/>
        </p:nvSpPr>
        <p:spPr>
          <a:xfrm flipH="1">
            <a:off x="716400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7126920" y="2133720"/>
            <a:ext cx="70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452960" y="2133720"/>
            <a:ext cx="70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2134440" y="22860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rapping Salvag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29"/>
          <p:cNvGrpSpPr/>
          <p:nvPr/>
        </p:nvGrpSpPr>
        <p:grpSpPr>
          <a:xfrm>
            <a:off x="611280" y="6156360"/>
            <a:ext cx="8839080" cy="642240"/>
            <a:chOff x="611280" y="6156360"/>
            <a:chExt cx="8839080" cy="642240"/>
          </a:xfrm>
        </p:grpSpPr>
        <p:sp>
          <p:nvSpPr>
            <p:cNvPr id="248" name="Text Box 30"/>
            <p:cNvSpPr/>
            <p:nvPr/>
          </p:nvSpPr>
          <p:spPr>
            <a:xfrm>
              <a:off x="1297080" y="6461280"/>
              <a:ext cx="731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Generating the WSDL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1"/>
            <p:cNvSpPr/>
            <p:nvPr/>
          </p:nvSpPr>
          <p:spPr>
            <a:xfrm>
              <a:off x="611280" y="6156360"/>
              <a:ext cx="838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8460000" y="6156360"/>
              <a:ext cx="99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34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813960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hteck 34"/>
          <p:cNvSpPr/>
          <p:nvPr/>
        </p:nvSpPr>
        <p:spPr>
          <a:xfrm>
            <a:off x="3399480" y="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Wra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304920" y="-152280"/>
            <a:ext cx="8839080" cy="759240"/>
            <a:chOff x="304920" y="-152280"/>
            <a:chExt cx="8839080" cy="759240"/>
          </a:xfrm>
        </p:grpSpPr>
        <p:sp>
          <p:nvSpPr>
            <p:cNvPr id="255" name="Text Box 3"/>
            <p:cNvSpPr/>
            <p:nvPr/>
          </p:nvSpPr>
          <p:spPr>
            <a:xfrm>
              <a:off x="990720" y="14724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Wrapped Program Interf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"/>
            <p:cNvSpPr/>
            <p:nvPr/>
          </p:nvSpPr>
          <p:spPr>
            <a:xfrm>
              <a:off x="304920" y="-15228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8153640" y="-152280"/>
              <a:ext cx="990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Rectangle 6"/>
          <p:cNvSpPr/>
          <p:nvPr/>
        </p:nvSpPr>
        <p:spPr>
          <a:xfrm>
            <a:off x="1066680" y="549360"/>
            <a:ext cx="6985080" cy="62996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INKAGE SECTION.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WRAP   01  PSAB001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OPY KOABSA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2  WBER                PIC X(250)  VALUE 'PSAB001'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2  FILLER  REDEFINES  WBER.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PROG           PIC X(07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ORD            PIC X(40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FILLER REDEFINES WORD.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4  WRATE         PIC X(04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4  WADAT         PIC X(08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4  WLFNR         PIC X(06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KTNR           PIC X(07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PNAM           PIC X(60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FART           PIC X(02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EDAT           PIC X(08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VORG           PIC X(02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KZ             PIC X(01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3  WABR            PIC X(01).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1  PSABSATZ                PIC X(10000).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***************** COBWRAP XML  parameters *****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XMLINS 01 XML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ML-FUNCODE              PIC X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ML-RETCODE              PIC 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ML-FILNAME              PIC X(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OBINS 01 X-COBOL-PA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REC-LNG   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MAP-LNG   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ACCEPT-LNG 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DISPLAY-LNG            PIC 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ACCEPT-TEXT            PIC X(8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05  X-DISPLAY-TEXT           PIC X(8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*    SATZDEFINITION WIRD FUER FUNKTION DRUCKEN IN DER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*    WORKING-STORAGE SECTION BENOETIGT!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813960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eck 8"/>
          <p:cNvSpPr/>
          <p:nvPr/>
        </p:nvSpPr>
        <p:spPr>
          <a:xfrm>
            <a:off x="3399480" y="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Wra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14400" y="609480"/>
            <a:ext cx="7848720" cy="60631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ROCEDURE DIVISION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NTRY 'PSAB001V' USING PSABSATZ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PSABSATZ TO KO-BER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'RD' TO XML-FUN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ZEROES TO XML-RET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'PSAB001V' TO XML-FIL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10000 TO X-REC-L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CALL 'PSAB001I' USING XML-FUNCODE, XML-RETCODE, XML-FILNAM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                      PSAB001V-PARAM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                      X-REC-L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F KO-ONRE NOT = ZERO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GO TO ZURUECK.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PERFORM UPERS-AR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PERFORM ARB-ERS-WEITER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DISPLAY 'AUSGABE PSAB001 ' RFARB UPON CONSOLE.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'RD' TO XML-FUN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MOVE ZEROES TO XML-RET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CALL 'PSAB001O' USING XML-FUNCODE, XML-RETCODE, XML-FILNAM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                      PSAB001V-PARAM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WRAP                             X-REC-L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ZURUECK.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GOBA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ARB-ERS-WEITER.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RATE TO WRATE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LFNR TO WLFNR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KTNR TO WKTNR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EDAT TO WEDAT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ADAT TO WADAT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VORG TO WVORG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FART TO WFART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KO-ABR  TO WABR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IF KO-KVKZ = 'K'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ERFORM UPTXZUS THRU EXTXZUS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PTX-FELD TO WPNAM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ELSE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ERFORM UPTIT-KO THRU EXTIT-KO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PERFORM UPTXZUS THRU EXTXZUS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de-DE" sz="1000" spc="-1" strike="noStrike">
                <a:solidFill>
                  <a:srgbClr val="000000"/>
                </a:solidFill>
                <a:latin typeface="Courier New"/>
              </a:rPr>
              <a:t>MOVE PTX-FELD TO WPNAM.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813960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hteck 8"/>
          <p:cNvSpPr/>
          <p:nvPr/>
        </p:nvSpPr>
        <p:spPr>
          <a:xfrm>
            <a:off x="2945160" y="2142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rapped Progra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eck 9"/>
          <p:cNvSpPr/>
          <p:nvPr/>
        </p:nvSpPr>
        <p:spPr>
          <a:xfrm>
            <a:off x="3399480" y="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Wrapping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here will the Web Services for SOA come from?</a:t>
            </a:r>
            <a:br>
              <a:rPr sz="28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rtainly not from the st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solidFill>
            <a:srgbClr val="b1e7e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sibly from commercial vendors, who will provide them on demand (that is going to be expensive 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sibly from Open Source Libraries (that is going to require a lot of adaptation effor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sibly they will be custom built by the users themselves (that is going to take a long ti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ssibly they will be salvaged from the junk yards of legacy systems (that is going to require reengineering 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9"/>
          <p:cNvSpPr/>
          <p:nvPr/>
        </p:nvSpPr>
        <p:spPr>
          <a:xfrm>
            <a:off x="21708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30"/>
          <p:cNvSpPr/>
          <p:nvPr/>
        </p:nvSpPr>
        <p:spPr>
          <a:xfrm>
            <a:off x="813996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5"/>
          <p:cNvSpPr/>
          <p:nvPr/>
        </p:nvSpPr>
        <p:spPr>
          <a:xfrm>
            <a:off x="3079800" y="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ources of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8839080" cy="760680"/>
            <a:chOff x="0" y="0"/>
            <a:chExt cx="8839080" cy="760680"/>
          </a:xfrm>
        </p:grpSpPr>
        <p:sp>
          <p:nvSpPr>
            <p:cNvPr id="268" name="Text Box 3"/>
            <p:cNvSpPr/>
            <p:nvPr/>
          </p:nvSpPr>
          <p:spPr>
            <a:xfrm>
              <a:off x="685800" y="30096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Generated Web Service Interface 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0" y="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7848720" y="0"/>
              <a:ext cx="990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685800" y="685800"/>
            <a:ext cx="7848720" cy="588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complexType type = "#params" name = "PSAB001V-PARAMS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unbounded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complexType type = "#group" name = "WBE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eltOnly" model = "closed" level = "02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element type = "#char" name = "WRAT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os = "0007" lng = "0004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ic = "X(4)" usage = "DISPLAY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element type = "#char" name = "WADAT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os = "0011" lng = "0008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ic = "X(8)" usage = "DISPLAY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element type = "#dec" name = "WLFN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os = "0019" lng = "0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ic = "X(6)" usage = "DISPLAY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XSDCOB:element type = "#dec" name = "WHTNR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content = "TextOnly" model = "closed" level = "03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occurs = "ONEORMORE" minOccurs = "0001" maxOccurs = "0001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os = "0025" lng = "0007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pic = "X(7)" usage = "DISPLAY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/XSDCOB:complex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message name="getPSAB001VResponse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part name="getPSAB001VResponse" name = "PSAB001V-PARAMS" type="types:PSAB001VResponseTypes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/messa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portType name="RSFServiceTemplatePor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operation name=„PSAB001V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input message = "PSAB001VRequest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output message= „PSAB001VRespons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Courier New"/>
              </a:rPr>
              <a:t>&lt;/oper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814356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hteck 8"/>
          <p:cNvSpPr/>
          <p:nvPr/>
        </p:nvSpPr>
        <p:spPr>
          <a:xfrm>
            <a:off x="2723400" y="0"/>
            <a:ext cx="38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Generating the WSDL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3"/>
          <p:cNvSpPr/>
          <p:nvPr/>
        </p:nvSpPr>
        <p:spPr>
          <a:xfrm>
            <a:off x="3276720" y="2514600"/>
            <a:ext cx="2590560" cy="38088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erpris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2819520" y="1828800"/>
            <a:ext cx="35049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lient-Progra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Java/BP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4038480" y="988920"/>
            <a:ext cx="1067040" cy="839520"/>
            <a:chOff x="4038480" y="988920"/>
            <a:chExt cx="1067040" cy="839520"/>
          </a:xfrm>
        </p:grpSpPr>
        <p:sp>
          <p:nvSpPr>
            <p:cNvPr id="278" name="Freeform 6"/>
            <p:cNvSpPr/>
            <p:nvPr/>
          </p:nvSpPr>
          <p:spPr>
            <a:xfrm>
              <a:off x="4184640" y="988920"/>
              <a:ext cx="749160" cy="48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"/>
            <p:cNvSpPr/>
            <p:nvPr/>
          </p:nvSpPr>
          <p:spPr>
            <a:xfrm>
              <a:off x="4038480" y="1471680"/>
              <a:ext cx="1067040" cy="35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4200480" y="1002600"/>
              <a:ext cx="717480" cy="455400"/>
            </a:xfrm>
            <a:prstGeom prst="pie">
              <a:avLst/>
            </a:pr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"/>
            <p:cNvSpPr/>
            <p:nvPr/>
          </p:nvSpPr>
          <p:spPr>
            <a:xfrm>
              <a:off x="4406760" y="1471680"/>
              <a:ext cx="304920" cy="51120"/>
            </a:xfrm>
            <a:prstGeom prst="pie">
              <a:avLst/>
            </a:pr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"/>
            <p:cNvSpPr/>
            <p:nvPr/>
          </p:nvSpPr>
          <p:spPr>
            <a:xfrm>
              <a:off x="4208400" y="1533960"/>
              <a:ext cx="701640" cy="38880"/>
            </a:xfrm>
            <a:prstGeom prst="pie">
              <a:avLst/>
            </a:pr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"/>
            <p:cNvSpPr/>
            <p:nvPr/>
          </p:nvSpPr>
          <p:spPr>
            <a:xfrm>
              <a:off x="4059360" y="1585080"/>
              <a:ext cx="1027080" cy="204840"/>
            </a:xfrm>
            <a:prstGeom prst="pie">
              <a:avLst/>
            </a:prstGeom>
            <a:solidFill>
              <a:srgbClr val="e8e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"/>
            <p:cNvSpPr/>
            <p:nvPr/>
          </p:nvSpPr>
          <p:spPr>
            <a:xfrm>
              <a:off x="4255920" y="1050840"/>
              <a:ext cx="606600" cy="358200"/>
            </a:xfrm>
            <a:prstGeom prst="pie">
              <a:avLst/>
            </a:prstGeom>
            <a:solidFill>
              <a:srgbClr val="95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4799160" y="1432800"/>
              <a:ext cx="63360" cy="15120"/>
            </a:xfrm>
            <a:prstGeom prst="rect">
              <a:avLst/>
            </a:prstGeom>
            <a:solidFill>
              <a:srgbClr val="d8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23216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426708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4302000" y="1544760"/>
              <a:ext cx="972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"/>
            <p:cNvSpPr/>
            <p:nvPr/>
          </p:nvSpPr>
          <p:spPr>
            <a:xfrm>
              <a:off x="433548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8"/>
            <p:cNvSpPr/>
            <p:nvPr/>
          </p:nvSpPr>
          <p:spPr>
            <a:xfrm>
              <a:off x="4370400" y="1544760"/>
              <a:ext cx="111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9"/>
            <p:cNvSpPr/>
            <p:nvPr/>
          </p:nvSpPr>
          <p:spPr>
            <a:xfrm>
              <a:off x="4405320" y="1544760"/>
              <a:ext cx="9360" cy="2772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"/>
            <p:cNvSpPr/>
            <p:nvPr/>
          </p:nvSpPr>
          <p:spPr>
            <a:xfrm>
              <a:off x="4884840" y="1648800"/>
              <a:ext cx="41040" cy="1148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1"/>
            <p:cNvSpPr/>
            <p:nvPr/>
          </p:nvSpPr>
          <p:spPr>
            <a:xfrm>
              <a:off x="4930920" y="1648800"/>
              <a:ext cx="42840" cy="1148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4978440" y="1648800"/>
              <a:ext cx="41400" cy="1148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4143240" y="1669680"/>
              <a:ext cx="706680" cy="1116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4886280" y="1669680"/>
              <a:ext cx="144360" cy="1116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"/>
            <p:cNvSpPr/>
            <p:nvPr/>
          </p:nvSpPr>
          <p:spPr>
            <a:xfrm>
              <a:off x="4896000" y="1705680"/>
              <a:ext cx="144360" cy="108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6"/>
            <p:cNvSpPr/>
            <p:nvPr/>
          </p:nvSpPr>
          <p:spPr>
            <a:xfrm>
              <a:off x="4132440" y="1705680"/>
              <a:ext cx="726840" cy="108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7"/>
            <p:cNvSpPr/>
            <p:nvPr/>
          </p:nvSpPr>
          <p:spPr>
            <a:xfrm>
              <a:off x="4121280" y="1751040"/>
              <a:ext cx="750600" cy="122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"/>
            <p:cNvSpPr/>
            <p:nvPr/>
          </p:nvSpPr>
          <p:spPr>
            <a:xfrm>
              <a:off x="4908600" y="1751040"/>
              <a:ext cx="142920" cy="122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9"/>
            <p:cNvSpPr/>
            <p:nvPr/>
          </p:nvSpPr>
          <p:spPr>
            <a:xfrm>
              <a:off x="4152960" y="1632240"/>
              <a:ext cx="687240" cy="122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0"/>
            <p:cNvSpPr/>
            <p:nvPr/>
          </p:nvSpPr>
          <p:spPr>
            <a:xfrm>
              <a:off x="4816440" y="1607400"/>
              <a:ext cx="55440" cy="1562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1"/>
            <p:cNvSpPr/>
            <p:nvPr/>
          </p:nvSpPr>
          <p:spPr>
            <a:xfrm>
              <a:off x="4772160" y="1607400"/>
              <a:ext cx="2052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2"/>
            <p:cNvSpPr/>
            <p:nvPr/>
          </p:nvSpPr>
          <p:spPr>
            <a:xfrm>
              <a:off x="4729320" y="1607400"/>
              <a:ext cx="1872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3"/>
            <p:cNvSpPr/>
            <p:nvPr/>
          </p:nvSpPr>
          <p:spPr>
            <a:xfrm>
              <a:off x="4684680" y="160740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4"/>
            <p:cNvSpPr/>
            <p:nvPr/>
          </p:nvSpPr>
          <p:spPr>
            <a:xfrm>
              <a:off x="4641840" y="1607400"/>
              <a:ext cx="176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5"/>
            <p:cNvSpPr/>
            <p:nvPr/>
          </p:nvSpPr>
          <p:spPr>
            <a:xfrm>
              <a:off x="4599000" y="160740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6"/>
            <p:cNvSpPr/>
            <p:nvPr/>
          </p:nvSpPr>
          <p:spPr>
            <a:xfrm>
              <a:off x="4554360" y="1607400"/>
              <a:ext cx="162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7"/>
            <p:cNvSpPr/>
            <p:nvPr/>
          </p:nvSpPr>
          <p:spPr>
            <a:xfrm>
              <a:off x="4511520" y="1607400"/>
              <a:ext cx="144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8"/>
            <p:cNvSpPr/>
            <p:nvPr/>
          </p:nvSpPr>
          <p:spPr>
            <a:xfrm>
              <a:off x="4468680" y="1607400"/>
              <a:ext cx="12960" cy="24480"/>
            </a:xfrm>
            <a:prstGeom prst="rect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9"/>
            <p:cNvSpPr/>
            <p:nvPr/>
          </p:nvSpPr>
          <p:spPr>
            <a:xfrm>
              <a:off x="4422600" y="1607400"/>
              <a:ext cx="162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0"/>
            <p:cNvSpPr/>
            <p:nvPr/>
          </p:nvSpPr>
          <p:spPr>
            <a:xfrm>
              <a:off x="4378320" y="160740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1"/>
            <p:cNvSpPr/>
            <p:nvPr/>
          </p:nvSpPr>
          <p:spPr>
            <a:xfrm>
              <a:off x="4334040" y="160740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"/>
            <p:cNvSpPr/>
            <p:nvPr/>
          </p:nvSpPr>
          <p:spPr>
            <a:xfrm>
              <a:off x="4289400" y="1607400"/>
              <a:ext cx="176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3"/>
            <p:cNvSpPr/>
            <p:nvPr/>
          </p:nvSpPr>
          <p:spPr>
            <a:xfrm>
              <a:off x="4245120" y="160740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4"/>
            <p:cNvSpPr/>
            <p:nvPr/>
          </p:nvSpPr>
          <p:spPr>
            <a:xfrm>
              <a:off x="4199040" y="1607400"/>
              <a:ext cx="2052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5"/>
            <p:cNvSpPr/>
            <p:nvPr/>
          </p:nvSpPr>
          <p:spPr>
            <a:xfrm>
              <a:off x="4121280" y="1607400"/>
              <a:ext cx="54000" cy="15624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6"/>
            <p:cNvSpPr/>
            <p:nvPr/>
          </p:nvSpPr>
          <p:spPr>
            <a:xfrm>
              <a:off x="4788000" y="1644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7"/>
            <p:cNvSpPr/>
            <p:nvPr/>
          </p:nvSpPr>
          <p:spPr>
            <a:xfrm>
              <a:off x="4743360" y="1644840"/>
              <a:ext cx="208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8"/>
            <p:cNvSpPr/>
            <p:nvPr/>
          </p:nvSpPr>
          <p:spPr>
            <a:xfrm>
              <a:off x="4699080" y="1644840"/>
              <a:ext cx="2052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9"/>
            <p:cNvSpPr/>
            <p:nvPr/>
          </p:nvSpPr>
          <p:spPr>
            <a:xfrm>
              <a:off x="4656240" y="164484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0"/>
            <p:cNvSpPr/>
            <p:nvPr/>
          </p:nvSpPr>
          <p:spPr>
            <a:xfrm>
              <a:off x="4611600" y="1644840"/>
              <a:ext cx="176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1"/>
            <p:cNvSpPr/>
            <p:nvPr/>
          </p:nvSpPr>
          <p:spPr>
            <a:xfrm>
              <a:off x="4570560" y="1644840"/>
              <a:ext cx="140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2"/>
            <p:cNvSpPr/>
            <p:nvPr/>
          </p:nvSpPr>
          <p:spPr>
            <a:xfrm>
              <a:off x="4525920" y="1644840"/>
              <a:ext cx="144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3"/>
            <p:cNvSpPr/>
            <p:nvPr/>
          </p:nvSpPr>
          <p:spPr>
            <a:xfrm>
              <a:off x="4483080" y="1644840"/>
              <a:ext cx="144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4"/>
            <p:cNvSpPr/>
            <p:nvPr/>
          </p:nvSpPr>
          <p:spPr>
            <a:xfrm>
              <a:off x="4438800" y="1644840"/>
              <a:ext cx="140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5"/>
            <p:cNvSpPr/>
            <p:nvPr/>
          </p:nvSpPr>
          <p:spPr>
            <a:xfrm>
              <a:off x="4392720" y="164484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6"/>
            <p:cNvSpPr/>
            <p:nvPr/>
          </p:nvSpPr>
          <p:spPr>
            <a:xfrm>
              <a:off x="4348080" y="1644840"/>
              <a:ext cx="176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7"/>
            <p:cNvSpPr/>
            <p:nvPr/>
          </p:nvSpPr>
          <p:spPr>
            <a:xfrm>
              <a:off x="4303800" y="164484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8"/>
            <p:cNvSpPr/>
            <p:nvPr/>
          </p:nvSpPr>
          <p:spPr>
            <a:xfrm>
              <a:off x="4259160" y="1644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9"/>
            <p:cNvSpPr/>
            <p:nvPr/>
          </p:nvSpPr>
          <p:spPr>
            <a:xfrm>
              <a:off x="4214880" y="1644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0"/>
            <p:cNvSpPr/>
            <p:nvPr/>
          </p:nvSpPr>
          <p:spPr>
            <a:xfrm>
              <a:off x="4792680" y="1716480"/>
              <a:ext cx="23760" cy="34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1"/>
            <p:cNvSpPr/>
            <p:nvPr/>
          </p:nvSpPr>
          <p:spPr>
            <a:xfrm>
              <a:off x="4705200" y="1716480"/>
              <a:ext cx="27000" cy="34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2"/>
            <p:cNvSpPr/>
            <p:nvPr/>
          </p:nvSpPr>
          <p:spPr>
            <a:xfrm>
              <a:off x="4632480" y="1716480"/>
              <a:ext cx="20520" cy="34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3"/>
            <p:cNvSpPr/>
            <p:nvPr/>
          </p:nvSpPr>
          <p:spPr>
            <a:xfrm>
              <a:off x="4282920" y="1716480"/>
              <a:ext cx="19080" cy="34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4"/>
            <p:cNvSpPr/>
            <p:nvPr/>
          </p:nvSpPr>
          <p:spPr>
            <a:xfrm>
              <a:off x="4192560" y="1716480"/>
              <a:ext cx="22320" cy="3420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5"/>
            <p:cNvSpPr/>
            <p:nvPr/>
          </p:nvSpPr>
          <p:spPr>
            <a:xfrm>
              <a:off x="4797360" y="1680840"/>
              <a:ext cx="208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6"/>
            <p:cNvSpPr/>
            <p:nvPr/>
          </p:nvSpPr>
          <p:spPr>
            <a:xfrm>
              <a:off x="4754520" y="1680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7"/>
            <p:cNvSpPr/>
            <p:nvPr/>
          </p:nvSpPr>
          <p:spPr>
            <a:xfrm>
              <a:off x="4710240" y="1680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8"/>
            <p:cNvSpPr/>
            <p:nvPr/>
          </p:nvSpPr>
          <p:spPr>
            <a:xfrm>
              <a:off x="4665600" y="1680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9"/>
            <p:cNvSpPr/>
            <p:nvPr/>
          </p:nvSpPr>
          <p:spPr>
            <a:xfrm>
              <a:off x="4622760" y="168084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70"/>
            <p:cNvSpPr/>
            <p:nvPr/>
          </p:nvSpPr>
          <p:spPr>
            <a:xfrm>
              <a:off x="4579920" y="168084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71"/>
            <p:cNvSpPr/>
            <p:nvPr/>
          </p:nvSpPr>
          <p:spPr>
            <a:xfrm>
              <a:off x="4537080" y="1680840"/>
              <a:ext cx="1440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2"/>
            <p:cNvSpPr/>
            <p:nvPr/>
          </p:nvSpPr>
          <p:spPr>
            <a:xfrm>
              <a:off x="4492800" y="168084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73"/>
            <p:cNvSpPr/>
            <p:nvPr/>
          </p:nvSpPr>
          <p:spPr>
            <a:xfrm>
              <a:off x="4448160" y="168084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4"/>
            <p:cNvSpPr/>
            <p:nvPr/>
          </p:nvSpPr>
          <p:spPr>
            <a:xfrm>
              <a:off x="4403880" y="1680840"/>
              <a:ext cx="158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5"/>
            <p:cNvSpPr/>
            <p:nvPr/>
          </p:nvSpPr>
          <p:spPr>
            <a:xfrm>
              <a:off x="4359240" y="1680840"/>
              <a:ext cx="1764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76"/>
            <p:cNvSpPr/>
            <p:nvPr/>
          </p:nvSpPr>
          <p:spPr>
            <a:xfrm>
              <a:off x="4314960" y="1680840"/>
              <a:ext cx="172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7"/>
            <p:cNvSpPr/>
            <p:nvPr/>
          </p:nvSpPr>
          <p:spPr>
            <a:xfrm>
              <a:off x="4268880" y="1680840"/>
              <a:ext cx="190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8"/>
            <p:cNvSpPr/>
            <p:nvPr/>
          </p:nvSpPr>
          <p:spPr>
            <a:xfrm>
              <a:off x="4224240" y="1680840"/>
              <a:ext cx="20880" cy="24480"/>
            </a:xfrm>
            <a:prstGeom prst="pie">
              <a:avLst/>
            </a:prstGeom>
            <a:solidFill>
              <a:srgbClr val="004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79"/>
            <p:cNvSpPr/>
            <p:nvPr/>
          </p:nvSpPr>
          <p:spPr>
            <a:xfrm>
              <a:off x="4267080" y="1121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80"/>
          <p:cNvSpPr/>
          <p:nvPr/>
        </p:nvSpPr>
        <p:spPr>
          <a:xfrm>
            <a:off x="3200400" y="3200400"/>
            <a:ext cx="1219320" cy="45720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1"/>
          <p:cNvSpPr/>
          <p:nvPr/>
        </p:nvSpPr>
        <p:spPr>
          <a:xfrm>
            <a:off x="4724280" y="3200400"/>
            <a:ext cx="1219320" cy="457200"/>
          </a:xfrm>
          <a:prstGeom prst="flowChartTerminator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2"/>
          <p:cNvSpPr/>
          <p:nvPr/>
        </p:nvSpPr>
        <p:spPr>
          <a:xfrm>
            <a:off x="3429000" y="39625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3"/>
          <p:cNvSpPr/>
          <p:nvPr/>
        </p:nvSpPr>
        <p:spPr>
          <a:xfrm>
            <a:off x="3200400" y="5029200"/>
            <a:ext cx="1219320" cy="45720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4"/>
          <p:cNvSpPr/>
          <p:nvPr/>
        </p:nvSpPr>
        <p:spPr>
          <a:xfrm>
            <a:off x="4724280" y="5029200"/>
            <a:ext cx="1219320" cy="457200"/>
          </a:xfrm>
          <a:prstGeom prst="flowChartTerminator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5"/>
          <p:cNvSpPr/>
          <p:nvPr/>
        </p:nvSpPr>
        <p:spPr>
          <a:xfrm>
            <a:off x="2819520" y="5791320"/>
            <a:ext cx="3504960" cy="7617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eb Service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Assembler, C, COBOL, PL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6"/>
          <p:cNvSpPr/>
          <p:nvPr/>
        </p:nvSpPr>
        <p:spPr>
          <a:xfrm>
            <a:off x="1752480" y="3962520"/>
            <a:ext cx="1219320" cy="7617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7"/>
          <p:cNvSpPr/>
          <p:nvPr/>
        </p:nvSpPr>
        <p:spPr>
          <a:xfrm>
            <a:off x="76320" y="3962520"/>
            <a:ext cx="1218960" cy="7617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SD-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8"/>
          <p:cNvSpPr/>
          <p:nvPr/>
        </p:nvSpPr>
        <p:spPr>
          <a:xfrm>
            <a:off x="6781680" y="3962520"/>
            <a:ext cx="1219320" cy="761760"/>
          </a:xfrm>
          <a:prstGeom prst="flowChartDocumen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9"/>
          <p:cNvSpPr/>
          <p:nvPr/>
        </p:nvSpPr>
        <p:spPr>
          <a:xfrm>
            <a:off x="2971800" y="4343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0"/>
          <p:cNvSpPr/>
          <p:nvPr/>
        </p:nvSpPr>
        <p:spPr>
          <a:xfrm>
            <a:off x="1295280" y="4343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1"/>
          <p:cNvSpPr/>
          <p:nvPr/>
        </p:nvSpPr>
        <p:spPr>
          <a:xfrm>
            <a:off x="5715000" y="4343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2"/>
          <p:cNvSpPr/>
          <p:nvPr/>
        </p:nvSpPr>
        <p:spPr>
          <a:xfrm>
            <a:off x="380988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380988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4"/>
          <p:cNvSpPr/>
          <p:nvPr/>
        </p:nvSpPr>
        <p:spPr>
          <a:xfrm>
            <a:off x="3809880" y="4724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5"/>
          <p:cNvSpPr/>
          <p:nvPr/>
        </p:nvSpPr>
        <p:spPr>
          <a:xfrm>
            <a:off x="3809880" y="5486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96"/>
          <p:cNvSpPr/>
          <p:nvPr/>
        </p:nvSpPr>
        <p:spPr>
          <a:xfrm>
            <a:off x="533412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7"/>
          <p:cNvSpPr/>
          <p:nvPr/>
        </p:nvSpPr>
        <p:spPr>
          <a:xfrm>
            <a:off x="533412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8"/>
          <p:cNvSpPr/>
          <p:nvPr/>
        </p:nvSpPr>
        <p:spPr>
          <a:xfrm>
            <a:off x="5334120" y="4724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99"/>
          <p:cNvSpPr/>
          <p:nvPr/>
        </p:nvSpPr>
        <p:spPr>
          <a:xfrm>
            <a:off x="5334120" y="5486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0"/>
          <p:cNvSpPr/>
          <p:nvPr/>
        </p:nvSpPr>
        <p:spPr>
          <a:xfrm>
            <a:off x="2362320" y="51055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1"/>
          <p:cNvSpPr/>
          <p:nvPr/>
        </p:nvSpPr>
        <p:spPr>
          <a:xfrm>
            <a:off x="5943600" y="5105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2"/>
          <p:cNvSpPr/>
          <p:nvPr/>
        </p:nvSpPr>
        <p:spPr>
          <a:xfrm>
            <a:off x="2057400" y="32162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3"/>
          <p:cNvSpPr/>
          <p:nvPr/>
        </p:nvSpPr>
        <p:spPr>
          <a:xfrm>
            <a:off x="5867280" y="32162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ssag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4"/>
          <p:cNvSpPr/>
          <p:nvPr/>
        </p:nvSpPr>
        <p:spPr>
          <a:xfrm>
            <a:off x="1447920" y="25909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ynchronous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5"/>
          <p:cNvSpPr/>
          <p:nvPr/>
        </p:nvSpPr>
        <p:spPr>
          <a:xfrm>
            <a:off x="6629400" y="1905120"/>
            <a:ext cx="2133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engine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6"/>
          <p:cNvSpPr/>
          <p:nvPr/>
        </p:nvSpPr>
        <p:spPr>
          <a:xfrm>
            <a:off x="1389600" y="228600"/>
            <a:ext cx="65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ating &amp; Testing wrapped Compon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7"/>
          <p:cNvSpPr/>
          <p:nvPr/>
        </p:nvSpPr>
        <p:spPr>
          <a:xfrm>
            <a:off x="8236080" y="1522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B2WS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8"/>
          <p:cNvSpPr/>
          <p:nvPr/>
        </p:nvSpPr>
        <p:spPr>
          <a:xfrm>
            <a:off x="230760" y="15228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hteck 107"/>
          <p:cNvSpPr/>
          <p:nvPr/>
        </p:nvSpPr>
        <p:spPr>
          <a:xfrm>
            <a:off x="2728080" y="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Integrating the wrapp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5562720" y="4495680"/>
            <a:ext cx="3200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Access 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5562720" y="1143000"/>
            <a:ext cx="320040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4038480" y="3429000"/>
            <a:ext cx="1067040" cy="457200"/>
          </a:xfrm>
          <a:prstGeom prst="roundRect">
            <a:avLst>
              <a:gd name="adj" fmla="val 279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 flipH="1">
            <a:off x="5105520" y="3657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038480" y="4495680"/>
            <a:ext cx="1067040" cy="457200"/>
          </a:xfrm>
          <a:prstGeom prst="roundRect">
            <a:avLst>
              <a:gd name="adj" fmla="val 279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1055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5867280" y="3276720"/>
            <a:ext cx="106704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7391520" y="3276720"/>
            <a:ext cx="106668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5867280" y="1752480"/>
            <a:ext cx="10670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7391520" y="1752480"/>
            <a:ext cx="10666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6400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792468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6400800" y="251460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 flipV="1">
            <a:off x="6400800" y="25142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6324480" y="5410080"/>
            <a:ext cx="1676520" cy="8384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7162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 flipV="1">
            <a:off x="7162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8115120" y="556272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304920" y="4495680"/>
            <a:ext cx="3200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 Access Sh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304920" y="1143000"/>
            <a:ext cx="32004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1371600" y="3276720"/>
            <a:ext cx="1066680" cy="761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609480" y="1752480"/>
            <a:ext cx="10670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2133720" y="1752480"/>
            <a:ext cx="10666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 flipH="1">
            <a:off x="24379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 flipH="1" flipV="1">
            <a:off x="1142640" y="251424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 flipV="1">
            <a:off x="1905120" y="25142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9051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32767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304920" y="12193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X Comp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5562720" y="12193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ULL Main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2"/>
          <p:cNvSpPr/>
          <p:nvPr/>
        </p:nvSpPr>
        <p:spPr>
          <a:xfrm>
            <a:off x="1090080" y="68580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w Distribute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3"/>
          <p:cNvSpPr/>
          <p:nvPr/>
        </p:nvSpPr>
        <p:spPr>
          <a:xfrm>
            <a:off x="6410880" y="68580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ld Mainframe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4"/>
          <p:cNvSpPr/>
          <p:nvPr/>
        </p:nvSpPr>
        <p:spPr>
          <a:xfrm>
            <a:off x="1066680" y="5410080"/>
            <a:ext cx="1676520" cy="83844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lational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5"/>
          <p:cNvSpPr/>
          <p:nvPr/>
        </p:nvSpPr>
        <p:spPr>
          <a:xfrm flipV="1">
            <a:off x="19051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3082320" y="556272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7"/>
          <p:cNvSpPr/>
          <p:nvPr/>
        </p:nvSpPr>
        <p:spPr>
          <a:xfrm>
            <a:off x="381960" y="304920"/>
            <a:ext cx="80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sing the Host to as a Service Provider at the DeBek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9"/>
          <p:cNvSpPr/>
          <p:nvPr/>
        </p:nvSpPr>
        <p:spPr>
          <a:xfrm>
            <a:off x="813960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0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hteck 39"/>
          <p:cNvSpPr/>
          <p:nvPr/>
        </p:nvSpPr>
        <p:spPr>
          <a:xfrm>
            <a:off x="2728080" y="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Integrating the wrapp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4800600" y="685800"/>
            <a:ext cx="4114800" cy="556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28600" y="609480"/>
            <a:ext cx="4114800" cy="586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4191120" y="6095880"/>
            <a:ext cx="761760" cy="381240"/>
          </a:xfrm>
          <a:custGeom>
            <a:avLst/>
            <a:gdLst>
              <a:gd name="textAreaLeft" fmla="*/ 133200 w 761760"/>
              <a:gd name="textAreaRight" fmla="*/ 552240 w 76176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304920" y="685800"/>
            <a:ext cx="4038480" cy="423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COPY-NAME  WSY016     LIBRARY SY-LI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ART DER COPYSTRECKE: WEITERE/SONSTIGE COPY-STREC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BESCHREIBUNG: DIE COPY-STRECKE DIENT ALS SCHNITTSTELLE (Z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              UEBERGABE DER AUF DEM HOST ERZEUGTEN ROHDAT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              ZUM PAPYRUS-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1  WSY0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WSY016-SATZART        PIC 9(003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FILLER                PIC X(797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DATEI-ANFANG      REDEFINES WSY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9(003) VALUE ZER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DATEI-ENDE        REDEFINES WYS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9(003) VALUE 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DOK-TRENNBLATT    REDEFINES WSY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9(003) VALUE 80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TRENNBL-FARBE PIC 9(001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88  WSY016-TRENNBL-ROT          VALUE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88  WSY016-TRENNBL-BLAU         VALUE 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88  WSY016-TRENNBL-GRUEN        VALUE 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TRENNBL-TEXT  PIC X(04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TRENNBL-DATUM PIC X(01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4952880" y="914400"/>
            <a:ext cx="38102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DOK-HEADER        REDEFINES WSY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9(003) VALUE 10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SPARTE PIC X(003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GPNR   PIC 9(003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FORM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IC X(006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SENDUNGS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IC X(005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GS     PIC 9(003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ABT    PIC X(007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SBNR   PIC 9(006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WSY016-HEADER-BEIL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CCURS 6 INDEXED BY WSY016-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5  WSY016-T-BEILAGE PIC 9(003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05  WSY016-KOPIE-ENDE        REDEFINES WSY016-RE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9(003) VALUE 2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10                       PIC X(001) VALUE "^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    ENDE COPY  WSY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2057040" y="15228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iginal COBO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8139600" y="212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hteck 9"/>
          <p:cNvSpPr/>
          <p:nvPr/>
        </p:nvSpPr>
        <p:spPr>
          <a:xfrm>
            <a:off x="2728080" y="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Integrating the wrapp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4800600" y="457200"/>
            <a:ext cx="4191120" cy="579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28600" y="457200"/>
            <a:ext cx="4267080" cy="601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4267080" y="6248520"/>
            <a:ext cx="762120" cy="380880"/>
          </a:xfrm>
          <a:custGeom>
            <a:avLst/>
            <a:gdLst>
              <a:gd name="textAreaLeft" fmla="*/ 133200 w 762120"/>
              <a:gd name="textAreaRight" fmla="*/ 552600 w 762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228600" y="457200"/>
            <a:ext cx="4267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8080"/>
                </a:solidFill>
                <a:latin typeface="Arial"/>
              </a:rPr>
              <a:t>&lt;?xml version = "1.0" encoding="UTF-8" ?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!--</a:t>
            </a: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This schema was generated from prog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by the Sneed Tool GENSCHEMA on date:0410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--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schema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undlauf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xmlns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SDCOB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fil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undlauf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recor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SY016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group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SY016-REC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dec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SY016-SATZART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3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9(003)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ILLER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4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797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(797)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group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SY016-DATEI-ANFANG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redef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WSY016-REC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dec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ILLER-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3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“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000000000000000000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9(003)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FILLER-0002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4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X(001)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GB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GB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en-GB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800600" y="685800"/>
            <a:ext cx="4572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group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WSY016-DATEI-END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redef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WYS016-REC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dec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ILLER-0003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3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9(003)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ILLER-0004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4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X(001)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pic = "X(001)" usage = "DISPLAY"/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complexType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group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WSY016-KOPIE-ANRED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el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redef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WSY016-REC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PTIONAL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dec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ILLER-019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3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9(003)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ILLER-0192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4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X(001)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WSY016-KOP-ANR-ZEILE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ONEORMORE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in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axOccur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os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05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ng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008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va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pic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X(080)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usag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de-DE" sz="700" spc="-1" strike="noStrike">
                <a:solidFill>
                  <a:srgbClr val="800000"/>
                </a:solidFill>
                <a:latin typeface="Arial"/>
              </a:rPr>
              <a:t>XSDCOB:element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typ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#char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name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ILLER-0193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content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TextOnly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mod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de-DE" sz="700" spc="-1" strike="noStrike">
                <a:solidFill>
                  <a:srgbClr val="ff0000"/>
                </a:solidFill>
                <a:latin typeface="Arial"/>
              </a:rPr>
              <a:t> level 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= "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700" spc="-1" strike="noStrike">
                <a:solidFill>
                  <a:srgbClr val="0000ff"/>
                </a:solidFill>
                <a:latin typeface="Arial"/>
              </a:rPr>
              <a:t>"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2212560" y="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ted XM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8155440" y="15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s &amp; Cons of using this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solidFill>
            <a:srgbClr val="a6f2f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are readi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can be wrapp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have been tested thru the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are known to fulfill the us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still have to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to not always fit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are costly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gacy components to not conform to modern technology, there may be hidden incompat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8155440" y="15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hteck 5"/>
          <p:cNvSpPr/>
          <p:nvPr/>
        </p:nvSpPr>
        <p:spPr>
          <a:xfrm>
            <a:off x="2937960" y="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Pros &amp; Cons of Wr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n Issues in Web Servic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solidFill>
            <a:srgbClr val="a6f2f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at is the proper granularity of a Web Servi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o large components do not fit into the busines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business process must be built around th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o small components are difficult to manage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components must be adapted to fit the business proces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ho is responsible for testing the Web Serv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uld Web Services be owned by the user or should he only use them - Computing on Deman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ll Web Services really reduce costs and improve the IT Service or is this just another gimmick to get money from silly IT use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SOA really the future, or is it just a passing fad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8155440" y="15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hteck 5"/>
          <p:cNvSpPr/>
          <p:nvPr/>
        </p:nvSpPr>
        <p:spPr>
          <a:xfrm>
            <a:off x="3577320" y="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Ope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ernate Approaches to the Recycling of existing Softwa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1e7e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verse Engineering Alternativ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that means redocumenting and reimplementing them based on the revis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ec Wrapping Alternativ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that means leaving them to run in their native environment and accessing them via a Proxy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urce Transformation Alternativ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that means revising the source code, so that it fits to the context of the new SOA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813996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5"/>
          <p:cNvSpPr/>
          <p:nvPr/>
        </p:nvSpPr>
        <p:spPr>
          <a:xfrm>
            <a:off x="3079800" y="0"/>
            <a:ext cx="30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ources of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to recovering Web Services from the existing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ing them in the legac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them for Re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ping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ng them from the legac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them with a WSDL 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813996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eck 5"/>
          <p:cNvSpPr/>
          <p:nvPr/>
        </p:nvSpPr>
        <p:spPr>
          <a:xfrm>
            <a:off x="2016360" y="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Salvaging Web Services from  Legac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214200" y="0"/>
            <a:ext cx="8686800" cy="764640"/>
            <a:chOff x="214200" y="0"/>
            <a:chExt cx="8686800" cy="764640"/>
          </a:xfrm>
        </p:grpSpPr>
        <p:sp>
          <p:nvSpPr>
            <p:cNvPr id="68" name="Text Box 3"/>
            <p:cNvSpPr/>
            <p:nvPr/>
          </p:nvSpPr>
          <p:spPr>
            <a:xfrm>
              <a:off x="1966680" y="30492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ing reusable Code Bl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214200" y="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7910280" y="0"/>
              <a:ext cx="990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"/>
          <p:cNvSpPr/>
          <p:nvPr/>
        </p:nvSpPr>
        <p:spPr>
          <a:xfrm>
            <a:off x="685800" y="1219320"/>
            <a:ext cx="106668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2209680" y="2133720"/>
            <a:ext cx="106704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657600" y="1219320"/>
            <a:ext cx="1066680" cy="609480"/>
          </a:xfrm>
          <a:prstGeom prst="flowChartTerminator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3657600" y="3124080"/>
            <a:ext cx="1066680" cy="609840"/>
          </a:xfrm>
          <a:prstGeom prst="flowChartPreparation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3567240" y="4191120"/>
            <a:ext cx="1298160" cy="914400"/>
            <a:chOff x="3567240" y="4191120"/>
            <a:chExt cx="1298160" cy="914400"/>
          </a:xfrm>
        </p:grpSpPr>
        <p:sp>
          <p:nvSpPr>
            <p:cNvPr id="76" name="AutoShape 11"/>
            <p:cNvSpPr/>
            <p:nvPr/>
          </p:nvSpPr>
          <p:spPr>
            <a:xfrm>
              <a:off x="3567240" y="4191120"/>
              <a:ext cx="1295280" cy="914400"/>
            </a:xfrm>
            <a:prstGeom prst="diamond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3570120" y="4653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3"/>
          <p:cNvGrpSpPr/>
          <p:nvPr/>
        </p:nvGrpSpPr>
        <p:grpSpPr>
          <a:xfrm>
            <a:off x="5334120" y="4191120"/>
            <a:ext cx="1295280" cy="914400"/>
            <a:chOff x="5334120" y="4191120"/>
            <a:chExt cx="1295280" cy="914400"/>
          </a:xfrm>
        </p:grpSpPr>
        <p:sp>
          <p:nvSpPr>
            <p:cNvPr id="79" name="AutoShape 14"/>
            <p:cNvSpPr/>
            <p:nvPr/>
          </p:nvSpPr>
          <p:spPr>
            <a:xfrm>
              <a:off x="5334120" y="4191120"/>
              <a:ext cx="1295280" cy="914400"/>
            </a:xfrm>
            <a:prstGeom prst="diamond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"/>
            <p:cNvSpPr/>
            <p:nvPr/>
          </p:nvSpPr>
          <p:spPr>
            <a:xfrm>
              <a:off x="5334120" y="46483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6"/>
          <p:cNvSpPr/>
          <p:nvPr/>
        </p:nvSpPr>
        <p:spPr>
          <a:xfrm>
            <a:off x="5638680" y="5334120"/>
            <a:ext cx="762120" cy="7617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598644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7086600" y="5410080"/>
            <a:ext cx="1066680" cy="609840"/>
          </a:xfrm>
          <a:prstGeom prst="flowChartTerminator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2148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4863960" y="464832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421488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274320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2743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121932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121896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>
            <a:off x="64008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"/>
          <p:cNvSpPr/>
          <p:nvPr/>
        </p:nvSpPr>
        <p:spPr>
          <a:xfrm>
            <a:off x="3200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67057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9"/>
          <p:cNvSpPr/>
          <p:nvPr/>
        </p:nvSpPr>
        <p:spPr>
          <a:xfrm>
            <a:off x="320040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0"/>
          <p:cNvSpPr/>
          <p:nvPr/>
        </p:nvSpPr>
        <p:spPr>
          <a:xfrm>
            <a:off x="6705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320040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6934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6934320" y="5105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1752480" y="4419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4495680" y="2057400"/>
            <a:ext cx="457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= f (x)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= Processing Rule (Arguments)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ing_Rule    = Allocation (Path_Expression)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h_Expression    = [&lt;Conditions&gt;]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270040" y="143496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licing Tech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505960" y="6324480"/>
            <a:ext cx="40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oing from the Results to the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0"/>
          <p:cNvSpPr/>
          <p:nvPr/>
        </p:nvSpPr>
        <p:spPr>
          <a:xfrm>
            <a:off x="813996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eck 39"/>
          <p:cNvSpPr/>
          <p:nvPr/>
        </p:nvSpPr>
        <p:spPr>
          <a:xfrm>
            <a:off x="2158560" y="0"/>
            <a:ext cx="51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Identifying Web Services in Legac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"/>
          <p:cNvGrpSpPr/>
          <p:nvPr/>
        </p:nvGrpSpPr>
        <p:grpSpPr>
          <a:xfrm>
            <a:off x="611280" y="6156360"/>
            <a:ext cx="8839080" cy="641880"/>
            <a:chOff x="611280" y="6156360"/>
            <a:chExt cx="8839080" cy="641880"/>
          </a:xfrm>
        </p:grpSpPr>
        <p:sp>
          <p:nvSpPr>
            <p:cNvPr id="108" name="Text Box 4"/>
            <p:cNvSpPr/>
            <p:nvPr/>
          </p:nvSpPr>
          <p:spPr>
            <a:xfrm>
              <a:off x="1297080" y="6460920"/>
              <a:ext cx="731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ata Flow Slice through a target Pro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611280" y="6156360"/>
              <a:ext cx="8380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8460000" y="6156360"/>
              <a:ext cx="990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1294920" y="45720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racing the selected results back to their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13996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hteck 10"/>
          <p:cNvSpPr/>
          <p:nvPr/>
        </p:nvSpPr>
        <p:spPr>
          <a:xfrm>
            <a:off x="2158560" y="0"/>
            <a:ext cx="51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Identifying Web Services in Legac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"/>
          <p:cNvGrpSpPr/>
          <p:nvPr/>
        </p:nvGrpSpPr>
        <p:grpSpPr>
          <a:xfrm>
            <a:off x="0" y="0"/>
            <a:ext cx="8839080" cy="764640"/>
            <a:chOff x="0" y="0"/>
            <a:chExt cx="8839080" cy="764640"/>
          </a:xfrm>
        </p:grpSpPr>
        <p:sp>
          <p:nvSpPr>
            <p:cNvPr id="117" name="Text Box 4"/>
            <p:cNvSpPr/>
            <p:nvPr/>
          </p:nvSpPr>
          <p:spPr>
            <a:xfrm>
              <a:off x="685800" y="30492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valuating the Reusability of selected 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0" y="0"/>
              <a:ext cx="838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7848720" y="0"/>
              <a:ext cx="990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14320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hteck 8"/>
          <p:cNvSpPr/>
          <p:nvPr/>
        </p:nvSpPr>
        <p:spPr>
          <a:xfrm>
            <a:off x="2436120" y="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Evaluating Potential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09480" y="762120"/>
            <a:ext cx="7920000" cy="5934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S T R U C T U R A L  Q U A N T I T Y  M E T R I C S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Modules                        =======&gt;        1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Copy/Includes                  =======&gt;        4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Entry Points                   =======&gt;        4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Exit Points                    =======&gt;        5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Sections/Procedures            =======&gt;        1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Labels/Paragraphs/Code Blocks  =======&gt;       46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Reusable Code Blocks           =======&gt;        1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Data Structures/Objects        =======&gt;       13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Reusable Data Objects          =======&gt;        5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P R O C E D U R A L   Q U A N T I T Y   M E T R I C S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Statements                     =======&gt;      333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Macro Statements               =======&gt;        0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Procedural Statements          =======&gt;      209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Convertable Statements         =======&gt;      175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Input Operations               =======&gt;        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Output Operations              =======&gt;        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File &amp; Database Accesses       =======&gt;        6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Foreign Modules called         =======&gt;        3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Call Statements                =======&gt;        3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Perform Statements             =======&gt;       3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Selections (If &amp; Case)         =======&gt;       27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Loop Statements (Until/While)  =======&gt;        5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GOTO Branches                  =======&gt;       2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all Control Statements         =======&gt;       81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Control Flow Branches          =======&gt;      109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Literals in Statements         =======&gt;       38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Constants in Statements        =======&gt;       23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Test Cases required            =======&gt;       17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different Statement Types      =======&gt;       34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Number of Function-Points                =======&gt;       21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0" y="0"/>
            <a:ext cx="9143640" cy="764640"/>
            <a:chOff x="0" y="0"/>
            <a:chExt cx="9143640" cy="764640"/>
          </a:xfrm>
        </p:grpSpPr>
        <p:sp>
          <p:nvSpPr>
            <p:cNvPr id="125" name="Text Box 4"/>
            <p:cNvSpPr/>
            <p:nvPr/>
          </p:nvSpPr>
          <p:spPr>
            <a:xfrm>
              <a:off x="709200" y="304920"/>
              <a:ext cx="75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Quantities of a Selected COBOL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0" y="0"/>
              <a:ext cx="866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8119440" y="0"/>
              <a:ext cx="1024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14320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8"/>
          <p:cNvSpPr/>
          <p:nvPr/>
        </p:nvSpPr>
        <p:spPr>
          <a:xfrm>
            <a:off x="2436120" y="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Evaluating Potential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143000" y="1066680"/>
            <a:ext cx="7273800" cy="538704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C O M P L E X I T Y       M E T R I C S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ATA COMPLEXITY (Chapin Metric)          =======&gt;  0.206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ATA FLOW COMPLEXITY (Elshof Metric)     =======&gt;  0.445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ATA ACCESS  COMPLEXITY (Card Metric)    =======&gt;  0.667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INTERFACE COMPLEXITY (Henry Metric)      =======&gt;  0.602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CONTROL FLOW COMPLEXITY (McCabe Metric)  =======&gt;  0.706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CISIONAL COMPLEXITY (McClure Metric)   =======&gt;  0.354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BRANCHING COMPLEXITY (Sneed Metric)      =======&gt;  0.842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LANGUAGE COMPLEXITY  (Halstead Metric)   =======&gt;  0.723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AVERAGE  PROGRAM COMPLEXITY              =======&gt;  0.568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Q U A L I T Y     M E T R I C S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MODULARITY                     =======&gt;  0.537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PORTABILITY                    =======&gt;  0.676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TESTABILITY                    =======&gt;  0.646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REUSABILITY                    =======&gt;  0.101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CONVERTIBILITY                 =======&gt;  0.565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FLEXIBILITY                    =======&gt;  0.709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CONFORMITY                     =======&gt;  0.540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DEGREE OF MAINTAINABILITY                =======&gt;  0.469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AVERAGE  PROGRAM QUALITY                 =======&gt;  0.530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-228600" y="152280"/>
            <a:ext cx="9753120" cy="764640"/>
            <a:chOff x="-228600" y="152280"/>
            <a:chExt cx="9753120" cy="764640"/>
          </a:xfrm>
        </p:grpSpPr>
        <p:sp>
          <p:nvSpPr>
            <p:cNvPr id="133" name="Text Box 4"/>
            <p:cNvSpPr/>
            <p:nvPr/>
          </p:nvSpPr>
          <p:spPr>
            <a:xfrm>
              <a:off x="528120" y="457200"/>
              <a:ext cx="80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mplexity and Quality of a selected COBOL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-228600" y="152280"/>
              <a:ext cx="924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8431920" y="152280"/>
              <a:ext cx="1092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8"/>
          <p:cNvSpPr/>
          <p:nvPr/>
        </p:nvSpPr>
        <p:spPr>
          <a:xfrm>
            <a:off x="214920" y="13644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O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8143200" y="21276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B2WS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hteck 8"/>
          <p:cNvSpPr/>
          <p:nvPr/>
        </p:nvSpPr>
        <p:spPr>
          <a:xfrm>
            <a:off x="2436120" y="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00000"/>
                </a:solidFill>
                <a:latin typeface="Arial"/>
              </a:rPr>
              <a:t>Evaluating Potential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7:57:50Z</dcterms:created>
  <dc:creator>Tósoky Andrea</dc:creator>
  <dc:description/>
  <dc:language>en-US</dc:language>
  <cp:lastModifiedBy> </cp:lastModifiedBy>
  <dcterms:modified xsi:type="dcterms:W3CDTF">2011-02-05T15:32:47Z</dcterms:modified>
  <cp:revision>22</cp:revision>
  <dc:subject/>
  <dc:title>Slide 1</dc:title>
</cp:coreProperties>
</file>